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28.png" ContentType="image/png"/>
  <Override PartName="/ppt/media/image9.png" ContentType="image/png"/>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10.wmf" ContentType="image/x-wmf"/>
  <Override PartName="/ppt/media/image2.png" ContentType="image/png"/>
  <Override PartName="/ppt/media/image25.png" ContentType="image/png"/>
  <Override PartName="/ppt/media/image6.png" ContentType="image/png"/>
  <Override PartName="/ppt/media/image14.wmf" ContentType="image/x-wmf"/>
  <Override PartName="/ppt/media/image4.wmf" ContentType="image/x-wmf"/>
  <Override PartName="/ppt/media/image27.png" ContentType="image/png"/>
  <Override PartName="/ppt/media/image15.png" ContentType="image/png"/>
  <Override PartName="/ppt/media/image26.png" ContentType="image/png"/>
  <Override PartName="/ppt/media/image23.wmf" ContentType="image/x-wmf"/>
  <Override PartName="/ppt/media/image22.wmf" ContentType="image/x-wmf"/>
  <Override PartName="/ppt/media/image21.wmf" ContentType="image/x-wmf"/>
  <Override PartName="/ppt/media/image19.png" ContentType="image/png"/>
  <Override PartName="/ppt/media/image24.png" ContentType="image/png"/>
  <Override PartName="/ppt/media/image1.png" ContentType="image/png"/>
  <Override PartName="/ppt/media/image20.png" ContentType="image/png"/>
  <Override PartName="/ppt/media/image18.png" ContentType="image/png"/>
  <Override PartName="/ppt/media/image17.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912EC-68FB-48CD-BE67-8C52F1604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90E69-22EF-4313-9554-5B7C6AB05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0E20A-9119-4B88-9FFD-4B500DF79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F02B3-7387-42E4-849B-B0884F7BA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B5127-4579-47D6-8156-4B209C496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A15D0-0D22-444F-9B7E-5AA6621A8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DDCE6-C82C-4F20-A62F-F18C08D81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42665-C441-4E30-9CB9-B2B0E51B9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510FA-06AE-4FFF-9054-8B753FFF8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275A6-8099-423A-916F-67B892987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B0D08-8194-4576-8662-978500FA1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5FE8F-B7BB-46B4-90C0-9BDFC1098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CB7C1-FD81-4523-AB19-7DE9AC1250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raft and Cadbury</a:t>
            </a:r>
            <a:endParaRPr b="0" lang="en-US" sz="4400" spc="-1" strike="noStrike">
              <a:solidFill>
                <a:srgbClr val="000000"/>
              </a:solidFill>
              <a:latin typeface="Calibri"/>
            </a:endParaRPr>
          </a:p>
        </p:txBody>
      </p:sp>
      <p:pic>
        <p:nvPicPr>
          <p:cNvPr id="42" name="Picture 3" descr=""/>
          <p:cNvPicPr/>
          <p:nvPr/>
        </p:nvPicPr>
        <p:blipFill>
          <a:blip r:embed="rId1"/>
          <a:stretch/>
        </p:blipFill>
        <p:spPr>
          <a:xfrm>
            <a:off x="800280" y="2290680"/>
            <a:ext cx="7543800" cy="227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the 5-7% Revenue Targets Realistic</a:t>
            </a:r>
            <a:endParaRPr b="0" lang="en-US" sz="4400" spc="-1" strike="noStrike">
              <a:solidFill>
                <a:srgbClr val="000000"/>
              </a:solidFill>
              <a:latin typeface="Calibri"/>
            </a:endParaRPr>
          </a:p>
        </p:txBody>
      </p:sp>
      <p:pic>
        <p:nvPicPr>
          <p:cNvPr id="60" name="Content Placeholder 3" descr=""/>
          <p:cNvPicPr/>
          <p:nvPr/>
        </p:nvPicPr>
        <p:blipFill>
          <a:blip r:embed="rId1"/>
          <a:stretch/>
        </p:blipFill>
        <p:spPr>
          <a:xfrm>
            <a:off x="1357200" y="1600200"/>
            <a:ext cx="6872400" cy="4836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dbury Base Data Operating Margin of 13.3% and Growth Rate of 11.1%</a:t>
            </a:r>
            <a:endParaRPr b="0" lang="en-US" sz="3200" spc="-1" strike="noStrike">
              <a:solidFill>
                <a:srgbClr val="000000"/>
              </a:solidFill>
              <a:latin typeface="Calibri"/>
            </a:endParaRPr>
          </a:p>
        </p:txBody>
      </p:sp>
      <p:pic>
        <p:nvPicPr>
          <p:cNvPr id="62" name="Content Placeholder 3" descr=""/>
          <p:cNvPicPr/>
          <p:nvPr/>
        </p:nvPicPr>
        <p:blipFill>
          <a:blip r:embed="rId1"/>
          <a:stretch/>
        </p:blipFill>
        <p:spPr>
          <a:xfrm>
            <a:off x="914400" y="1600200"/>
            <a:ext cx="7365960" cy="489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ied Tax Rate and Shares</a:t>
            </a:r>
            <a:endParaRPr b="0" lang="en-US" sz="4400" spc="-1" strike="noStrike">
              <a:solidFill>
                <a:srgbClr val="000000"/>
              </a:solidFill>
              <a:latin typeface="Calibri"/>
            </a:endParaRPr>
          </a:p>
        </p:txBody>
      </p:sp>
      <p:pic>
        <p:nvPicPr>
          <p:cNvPr id="64" name="Picture 2" descr=""/>
          <p:cNvPicPr/>
          <p:nvPr/>
        </p:nvPicPr>
        <p:blipFill>
          <a:blip r:embed="rId1"/>
          <a:stretch/>
        </p:blipFill>
        <p:spPr>
          <a:xfrm>
            <a:off x="958680" y="1600200"/>
            <a:ext cx="722664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IC and Tax Rate</a:t>
            </a:r>
            <a:endParaRPr b="0" lang="en-US" sz="4400" spc="-1" strike="noStrike">
              <a:solidFill>
                <a:srgbClr val="000000"/>
              </a:solidFill>
              <a:latin typeface="Calibri"/>
            </a:endParaRPr>
          </a:p>
        </p:txBody>
      </p:sp>
      <p:pic>
        <p:nvPicPr>
          <p:cNvPr id="66" name="Picture 2" descr=""/>
          <p:cNvPicPr/>
          <p:nvPr/>
        </p:nvPicPr>
        <p:blipFill>
          <a:blip r:embed="rId1"/>
          <a:stretch/>
        </p:blipFill>
        <p:spPr>
          <a:xfrm>
            <a:off x="990720" y="1378080"/>
            <a:ext cx="7238880" cy="502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wth in Industry</a:t>
            </a:r>
            <a:endParaRPr b="0" lang="en-US" sz="4400" spc="-1" strike="noStrike">
              <a:solidFill>
                <a:srgbClr val="000000"/>
              </a:solidFill>
              <a:latin typeface="Calibri"/>
            </a:endParaRPr>
          </a:p>
        </p:txBody>
      </p:sp>
      <p:pic>
        <p:nvPicPr>
          <p:cNvPr id="68" name="Picture 2" descr=""/>
          <p:cNvPicPr/>
          <p:nvPr/>
        </p:nvPicPr>
        <p:blipFill>
          <a:blip r:embed="rId1"/>
          <a:stretch/>
        </p:blipFill>
        <p:spPr>
          <a:xfrm>
            <a:off x="638280" y="1814400"/>
            <a:ext cx="7867440" cy="409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turn on Invested Capital</a:t>
            </a:r>
            <a:endParaRPr b="0" lang="en-US" sz="4400" spc="-1" strike="noStrike">
              <a:solidFill>
                <a:srgbClr val="000000"/>
              </a:solidFill>
              <a:latin typeface="Calibri"/>
            </a:endParaRPr>
          </a:p>
        </p:txBody>
      </p:sp>
      <p:pic>
        <p:nvPicPr>
          <p:cNvPr id="70" name="Picture 2" descr=""/>
          <p:cNvPicPr/>
          <p:nvPr/>
        </p:nvPicPr>
        <p:blipFill>
          <a:blip r:embed="rId1"/>
          <a:stretch/>
        </p:blipFill>
        <p:spPr>
          <a:xfrm>
            <a:off x="1154160" y="1600200"/>
            <a:ext cx="683568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wth in Confectionary Industry</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638280" y="1658880"/>
            <a:ext cx="7458120" cy="4665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 name="Content Placeholder 3" descr=""/>
          <p:cNvPicPr/>
          <p:nvPr/>
        </p:nvPicPr>
        <p:blipFill>
          <a:blip r:embed="rId1"/>
          <a:stretch/>
        </p:blipFill>
        <p:spPr>
          <a:xfrm>
            <a:off x="1149480" y="1600200"/>
            <a:ext cx="684504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lobal Increase in Sales</a:t>
            </a:r>
            <a:endParaRPr b="0" lang="en-US" sz="4400" spc="-1" strike="noStrike">
              <a:solidFill>
                <a:srgbClr val="000000"/>
              </a:solidFill>
              <a:latin typeface="Calibri"/>
            </a:endParaRPr>
          </a:p>
        </p:txBody>
      </p:sp>
      <p:pic>
        <p:nvPicPr>
          <p:cNvPr id="76" name="Picture 2" descr=""/>
          <p:cNvPicPr/>
          <p:nvPr/>
        </p:nvPicPr>
        <p:blipFill>
          <a:blip r:embed="rId1"/>
          <a:stretch/>
        </p:blipFill>
        <p:spPr>
          <a:xfrm>
            <a:off x="1598760" y="1600200"/>
            <a:ext cx="594648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ier Forecasts</a:t>
            </a:r>
            <a:endParaRPr b="0" lang="en-US" sz="4400" spc="-1" strike="noStrike">
              <a:solidFill>
                <a:srgbClr val="000000"/>
              </a:solidFill>
              <a:latin typeface="Calibri"/>
            </a:endParaRPr>
          </a:p>
        </p:txBody>
      </p:sp>
      <p:pic>
        <p:nvPicPr>
          <p:cNvPr id="78" name="Picture 2" descr=""/>
          <p:cNvPicPr/>
          <p:nvPr/>
        </p:nvPicPr>
        <p:blipFill>
          <a:blip r:embed="rId1"/>
          <a:stretch/>
        </p:blipFill>
        <p:spPr>
          <a:xfrm>
            <a:off x="1295280" y="1506600"/>
            <a:ext cx="6400800" cy="482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Data and Introduction</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l Offer – July 200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raft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 Price: $29.58</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nings per Share: $2.16</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hares: 1,478 mill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dbury (AD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 Price: $34.66</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lance Sheet Adjustments</a:t>
            </a:r>
            <a:endParaRPr b="0" lang="en-US" sz="4400" spc="-1" strike="noStrike">
              <a:solidFill>
                <a:srgbClr val="000000"/>
              </a:solidFill>
              <a:latin typeface="Calibri"/>
            </a:endParaRPr>
          </a:p>
        </p:txBody>
      </p:sp>
      <p:pic>
        <p:nvPicPr>
          <p:cNvPr id="80" name="Picture 2" descr=""/>
          <p:cNvPicPr/>
          <p:nvPr/>
        </p:nvPicPr>
        <p:blipFill>
          <a:blip r:embed="rId1"/>
          <a:stretch/>
        </p:blipFill>
        <p:spPr>
          <a:xfrm>
            <a:off x="2133720" y="1324080"/>
            <a:ext cx="4640040" cy="5533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ss and Net Plant for Depreciation Rate Calculation</a:t>
            </a:r>
            <a:endParaRPr b="0" lang="en-US" sz="4400" spc="-1" strike="noStrike">
              <a:solidFill>
                <a:srgbClr val="000000"/>
              </a:solidFill>
              <a:latin typeface="Calibri"/>
            </a:endParaRPr>
          </a:p>
        </p:txBody>
      </p:sp>
      <p:pic>
        <p:nvPicPr>
          <p:cNvPr id="82" name="Picture 2" descr=""/>
          <p:cNvPicPr/>
          <p:nvPr/>
        </p:nvPicPr>
        <p:blipFill>
          <a:blip r:embed="rId1"/>
          <a:stretch/>
        </p:blipFill>
        <p:spPr>
          <a:xfrm>
            <a:off x="1023840" y="1600200"/>
            <a:ext cx="709632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nergies - 1</a:t>
            </a:r>
            <a:endParaRPr b="0" lang="en-US" sz="4400" spc="-1" strike="noStrike">
              <a:solidFill>
                <a:srgbClr val="000000"/>
              </a:solidFill>
              <a:latin typeface="Calibri"/>
            </a:endParaRPr>
          </a:p>
        </p:txBody>
      </p:sp>
      <p:sp>
        <p:nvSpPr>
          <p:cNvPr id="84" name=""/>
          <p:cNvSpPr txBox="1"/>
          <p:nvPr/>
        </p:nvSpPr>
        <p:spPr>
          <a:xfrm>
            <a:off x="380880" y="1219320"/>
            <a:ext cx="8305920" cy="5029200"/>
          </a:xfrm>
          <a:prstGeom prst="rect">
            <a:avLst/>
          </a:prstGeom>
          <a:noFill/>
          <a:ln w="0">
            <a:noFill/>
          </a:ln>
        </p:spPr>
        <p:txBody>
          <a:bodyPr anchor="t">
            <a:normAutofit/>
          </a:bodyPr>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lthough no assurance can be given that any particular level of cost savings will be achieved, the Kraft Foods and Cadbury combination is expected to provide the potential for meaningful revenue synergies over time from investments in distribution, marketing and product development. In addition, it is expected that pre-tax cost savings of at least $675 million annually can be realized by the end of the third year following completion. Total one-off implementation cash costs of approximately $1.3 billion are expected to be incurred in the first three years following completion.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oth we and Cadbury have implemented extensive cost saving and operating efficiency programs in recent years and have already delivered significant margin improvement and revenue growth improvements. These annual cost savings are still expected to be achieved over and above the current performance improvement plans at each of Kraft Foods and Cadbury.  While it is anticipated that these targeted savings will continue to be delivered, we believe that the combined company  would be capable of achieving substantial further cost savings through economies of scale and procurement benefits, general and administrative cost savings and marketing and selling costs savings.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e have taken all information (other than certain information concerning Cadbury share options) concerning Cadbury, its business, management and operations presented or incorporated by reference in this prospectus/offer to exchange from publicly available information. This information may be examined and copies may be obtained at the places and in the manner set forth in the section of this prospectus/offer to exchange entitled “Where You Can Find More Information.”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e have not had due diligence access to Cadbury or its business or management for the purposes of preparing this prospectus/offer to exchange. Therefore, non-public information concerning Cadbury’s business and financial condition was not available to us for the purpose of preparing this prospectus/offer to exchange. Although we have no knowledge that would indicate that any information or statements relating to Cadbury contained or incorporated by reference in this prospectus/offer to exchange are inaccurate or incomplete, we were not involved in the preparation of the information or the statements. </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nergies -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oth we and Cadbury have implemented extensive cost saving and operating efficiency programs in recent years and have already delivered significant margin improvement and revenue growth improvements. These annual cost savings are still expected to be achieved over and above the current performance improvement plans at each of Kraft Foods and Cadbury.  While it is anticipated that these targeted savings will continue to be delivered, we believe that the combined company would be capable of achieving substantial further cost savings through economies of scale and procurement benefits, general and administrative cost savings and marketing and selling costs savings.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llowing completion of the acquisition, Cadbury securityholders will be able to share in the synergies resulting from the combination of Kraft Foods and Cadbury through the share component of the offer.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expected sources of the expected annual pre-tax cost savings of at least $675 million are: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   </a:t>
            </a:r>
            <a:r>
              <a:rPr b="0" lang="en-US" sz="1600" spc="-1" strike="noStrike">
                <a:solidFill>
                  <a:srgbClr val="000000"/>
                </a:solidFill>
                <a:latin typeface="Calibri"/>
              </a:rPr>
              <a:t>potential operational cost savings of $300 million per annum resulting from efficiencies and economies of scale in the areas of procurement, manufacturing, customer service, logistics and research and development;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   </a:t>
            </a:r>
            <a:r>
              <a:rPr b="0" lang="en-US" sz="1600" spc="-1" strike="noStrike">
                <a:solidFill>
                  <a:srgbClr val="000000"/>
                </a:solidFill>
                <a:latin typeface="Calibri"/>
              </a:rPr>
              <a:t>potential general and administrative cost savings of $250 million resulting from efficiencies in the areas of central, regional and country level administrative expenses; an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   </a:t>
            </a:r>
            <a:r>
              <a:rPr b="0" lang="en-US" sz="1600" spc="-1" strike="noStrike">
                <a:solidFill>
                  <a:srgbClr val="000000"/>
                </a:solidFill>
                <a:latin typeface="Calibri"/>
              </a:rPr>
              <a:t>potential marketing and selling cost savings of $125 million resulting from efficiencies and economies of scale in the areas of marketing, media and selling expenses.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Merger Synergy Estimates</a:t>
            </a:r>
            <a:endParaRPr b="0" lang="en-US" sz="4400" spc="-1" strike="noStrike">
              <a:solidFill>
                <a:srgbClr val="000000"/>
              </a:solidFill>
              <a:latin typeface="Calibri"/>
            </a:endParaRPr>
          </a:p>
        </p:txBody>
      </p:sp>
      <p:pic>
        <p:nvPicPr>
          <p:cNvPr id="88" name="Picture 2" descr=""/>
          <p:cNvPicPr/>
          <p:nvPr/>
        </p:nvPicPr>
        <p:blipFill>
          <a:blip r:embed="rId1"/>
          <a:stretch/>
        </p:blipFill>
        <p:spPr>
          <a:xfrm>
            <a:off x="628560" y="1633680"/>
            <a:ext cx="7886880" cy="4457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 Integration Estimates</a:t>
            </a:r>
            <a:endParaRPr b="0" lang="en-US" sz="4400" spc="-1" strike="noStrike">
              <a:solidFill>
                <a:srgbClr val="000000"/>
              </a:solidFill>
              <a:latin typeface="Calibri"/>
            </a:endParaRPr>
          </a:p>
        </p:txBody>
      </p:sp>
      <p:pic>
        <p:nvPicPr>
          <p:cNvPr id="90" name="Picture 2" descr=""/>
          <p:cNvPicPr/>
          <p:nvPr/>
        </p:nvPicPr>
        <p:blipFill>
          <a:blip r:embed="rId1"/>
          <a:stretch/>
        </p:blipFill>
        <p:spPr>
          <a:xfrm>
            <a:off x="996840" y="1600200"/>
            <a:ext cx="715032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sts and Benefits of Acquisition</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believe that the offer will deliver the following key benefits: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ccretion to earnings per share in 2011 of approximately $0.05 on a cash basis; and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   </a:t>
            </a:r>
            <a:r>
              <a:rPr b="0" lang="en-US" sz="2200" spc="-1" strike="noStrike">
                <a:solidFill>
                  <a:srgbClr val="000000"/>
                </a:solidFill>
                <a:latin typeface="Calibri"/>
              </a:rPr>
              <a:t>a mid-teens return on investment, well in excess of our cost of capital.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   </a:t>
            </a:r>
            <a:r>
              <a:rPr b="0" lang="en-US" sz="2200" spc="-1" strike="noStrike">
                <a:solidFill>
                  <a:srgbClr val="000000"/>
                </a:solidFill>
                <a:latin typeface="Calibri"/>
              </a:rPr>
              <a:t>accretion to earnings in the second year following completion on a cash basis (which excludes the one-time costs to achieve synergies and expenses related to the transaction and the impact of non-cash items such as the amortization of intangibles after acquisitio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   </a:t>
            </a:r>
            <a:r>
              <a:rPr b="0" lang="en-US" sz="2200" spc="-1" strike="noStrike">
                <a:solidFill>
                  <a:srgbClr val="000000"/>
                </a:solidFill>
                <a:latin typeface="Calibri"/>
              </a:rPr>
              <a:t>a return on investment in excess of our cost of capital within an acceptable timefram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   </a:t>
            </a:r>
            <a:r>
              <a:rPr b="0" lang="en-US" sz="2200" spc="-1" strike="noStrike">
                <a:solidFill>
                  <a:srgbClr val="000000"/>
                </a:solidFill>
                <a:latin typeface="Calibri"/>
              </a:rPr>
              <a:t>retention of our investment-grade credit rating; and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   </a:t>
            </a:r>
            <a:r>
              <a:rPr b="0" lang="en-US" sz="2200" spc="-1" strike="noStrike">
                <a:solidFill>
                  <a:srgbClr val="000000"/>
                </a:solidFill>
                <a:latin typeface="Calibri"/>
              </a:rPr>
              <a:t>maintenance of our dividend.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raft Objectives in Acquisition</a:t>
            </a:r>
            <a:endParaRPr b="0" lang="en-US" sz="4400" spc="-1" strike="noStrike">
              <a:solidFill>
                <a:srgbClr val="000000"/>
              </a:solidFill>
              <a:latin typeface="Calibri"/>
            </a:endParaRPr>
          </a:p>
        </p:txBody>
      </p:sp>
      <p:pic>
        <p:nvPicPr>
          <p:cNvPr id="94" name="Picture 2" descr=""/>
          <p:cNvPicPr/>
          <p:nvPr/>
        </p:nvPicPr>
        <p:blipFill>
          <a:blip r:embed="rId1"/>
          <a:stretch/>
        </p:blipFill>
        <p:spPr>
          <a:xfrm>
            <a:off x="719280" y="1706400"/>
            <a:ext cx="7705440" cy="4314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nings Accretion/Dilution</a:t>
            </a:r>
            <a:endParaRPr b="0" lang="en-US" sz="4400" spc="-1" strike="noStrike">
              <a:solidFill>
                <a:srgbClr val="000000"/>
              </a:solidFill>
              <a:latin typeface="Calibri"/>
            </a:endParaRPr>
          </a:p>
        </p:txBody>
      </p:sp>
      <p:pic>
        <p:nvPicPr>
          <p:cNvPr id="96" name="Picture 2" descr=""/>
          <p:cNvPicPr/>
          <p:nvPr/>
        </p:nvPicPr>
        <p:blipFill>
          <a:blip r:embed="rId1"/>
          <a:stretch/>
        </p:blipFill>
        <p:spPr>
          <a:xfrm>
            <a:off x="1257480" y="1600200"/>
            <a:ext cx="6629400" cy="452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ar Term Accretion and Dilution</a:t>
            </a:r>
            <a:endParaRPr b="0" lang="en-US" sz="4400" spc="-1" strike="noStrike">
              <a:solidFill>
                <a:srgbClr val="000000"/>
              </a:solidFill>
              <a:latin typeface="Calibri"/>
            </a:endParaRPr>
          </a:p>
        </p:txBody>
      </p:sp>
      <p:pic>
        <p:nvPicPr>
          <p:cNvPr id="98" name="Picture 2" descr=""/>
          <p:cNvPicPr/>
          <p:nvPr/>
        </p:nvPicPr>
        <p:blipFill>
          <a:blip r:embed="rId1"/>
          <a:stretch/>
        </p:blipFill>
        <p:spPr>
          <a:xfrm>
            <a:off x="1414440" y="1600200"/>
            <a:ext cx="631512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mium in Cadbury/Kraft</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ased on the closing share price of $29.58 per share of Kraft Foods common stock on the NYSE on January 15, 2010 (the last trading day prior to our announcement of the revised terms of the offer) and an exchange rate of $1.63 per £1.00 (as quoted by WM/Reuters on January 18, 2010, the day prior to our announcement of the revised terms of the offer) the offer represents a substantial premium to Cadbury’s unaffected share price. This premium is approximately: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   </a:t>
            </a:r>
            <a:r>
              <a:rPr b="0" lang="en-US" sz="1500" spc="-1" strike="noStrike">
                <a:solidFill>
                  <a:srgbClr val="000000"/>
                </a:solidFill>
                <a:latin typeface="Calibri"/>
              </a:rPr>
              <a:t>60.5% over the closing middle market price of 524 pence for Cadbury ordinary shares on the LSE on July 3, 2009, the last trading day prior to analyst suggestions regarding potential sector consolidation;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58.0% over the closing share price of $34.66 for Cadbury ADSs on the NYSE on July 2, 2009, the last trading day prior to analyst suggestions regarding potential sector consolidation;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   </a:t>
            </a:r>
            <a:r>
              <a:rPr b="0" lang="en-US" sz="1500" spc="-1" strike="noStrike">
                <a:solidFill>
                  <a:srgbClr val="000000"/>
                </a:solidFill>
                <a:latin typeface="Calibri"/>
              </a:rPr>
              <a:t>51.3% over the average daily closing middle market price for Cadbury ordinary shares on the LSE during the 90-day period ended on September 4, 2009, the last full trading day before our first public announcement of a possible offer for Cadbury, which was 555 pence per Cadbury ordinary share;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   </a:t>
            </a:r>
            <a:r>
              <a:rPr b="0" lang="en-US" sz="1500" spc="-1" strike="noStrike">
                <a:solidFill>
                  <a:srgbClr val="000000"/>
                </a:solidFill>
                <a:latin typeface="Calibri"/>
              </a:rPr>
              <a:t>49.1% over the average daily closing share price for Cadbury ADSs on the NYSE during the 90-day period ended on September 4, 2009, which was $36.74 per Cadbury ADS;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   </a:t>
            </a:r>
            <a:r>
              <a:rPr b="0" lang="en-US" sz="1500" spc="-1" strike="noStrike">
                <a:solidFill>
                  <a:srgbClr val="000000"/>
                </a:solidFill>
                <a:latin typeface="Calibri"/>
              </a:rPr>
              <a:t>47.9% over the closing middle market price of 568 pence for Cadbury ordinary shares on the LSE on September 4, 2009; and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   </a:t>
            </a:r>
            <a:r>
              <a:rPr b="0" lang="en-US" sz="1500" spc="-1" strike="noStrike">
                <a:solidFill>
                  <a:srgbClr val="000000"/>
                </a:solidFill>
                <a:latin typeface="Calibri"/>
              </a:rPr>
              <a:t>46.2% over the closing share price of $37.46 for Cadbury ADSs on the NYSE on September 4, 2009.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t Sale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raft has sold its North American frozen pizza operations to Nestle for about $3.7 billion in cash, and the company is turning around and using this cash to boost the cash portion of its Cadbury acquisi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odwill</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r purposes of the pro forma analysis, the intangible assets of Cadbury have been increased $3,470 million to a total value of $5,000 million to reflect our preliminary estimate of the fair value of intangible assets, including trade names and customer list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deferred tax liability of $1,042 million was recorded in connection with this increase. No other adjustment was made to the assets and liabilities of Cadbury to reflect their fair valu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oodwill was increased $9,821 million to reflect the total excess of the purchase consideration over the fair value of the assets acquired of $15,943 mill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action Fee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estimated that total offer-related costs will be $422 million. These costs have been accrued as a current liability, net of a $75 million tax benefit. Because we are required to expense these costs as they are incurred, we have charged them to retained earnings as of June 30, 2009. No adjustment has been made to either income statement for these costs as they are non-recurr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BITDA Multiple</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offer equates to an enterprise value multiple of 13.0 times Cadbury’s “underlying” 2009 EBITD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the closing share price of $29.58 per share of Kraft Foods common stock on January 15, 2010 (the last trading day prior to our announcement of the revised terms of the offer), and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exchange rate of $1.63 per £1.00 (as quoted by WM/Reuters on January 18, 2010, the day prior to our announcement of the revised terms of the off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terprise value multiple is calculated assuming the exercise of all share options and vesting of all share awards held under Cadbury’s share schemes.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justed EV/EBITDA</a:t>
            </a:r>
            <a:endParaRPr b="0" lang="en-US" sz="4400" spc="-1" strike="noStrike">
              <a:solidFill>
                <a:srgbClr val="000000"/>
              </a:solidFill>
              <a:latin typeface="Calibri"/>
            </a:endParaRPr>
          </a:p>
        </p:txBody>
      </p:sp>
      <p:pic>
        <p:nvPicPr>
          <p:cNvPr id="108" name="Picture 2" descr=""/>
          <p:cNvPicPr/>
          <p:nvPr/>
        </p:nvPicPr>
        <p:blipFill>
          <a:blip r:embed="rId1"/>
          <a:stretch/>
        </p:blipFill>
        <p:spPr>
          <a:xfrm>
            <a:off x="2666880" y="2209680"/>
            <a:ext cx="3395880" cy="3273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Multiples</a:t>
            </a:r>
            <a:endParaRPr b="0" lang="en-US" sz="4400" spc="-1" strike="noStrike">
              <a:solidFill>
                <a:srgbClr val="000000"/>
              </a:solidFill>
              <a:latin typeface="Calibri"/>
            </a:endParaRPr>
          </a:p>
        </p:txBody>
      </p:sp>
      <p:pic>
        <p:nvPicPr>
          <p:cNvPr id="110" name="Picture 2" descr=""/>
          <p:cNvPicPr/>
          <p:nvPr/>
        </p:nvPicPr>
        <p:blipFill>
          <a:blip r:embed="rId1"/>
          <a:stretch/>
        </p:blipFill>
        <p:spPr>
          <a:xfrm>
            <a:off x="457200" y="2281320"/>
            <a:ext cx="8229600" cy="3163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odwill </a:t>
            </a:r>
            <a:endParaRPr b="0" lang="en-US" sz="4400" spc="-1" strike="noStrike">
              <a:solidFill>
                <a:srgbClr val="000000"/>
              </a:solidFill>
              <a:latin typeface="Calibri"/>
            </a:endParaRPr>
          </a:p>
        </p:txBody>
      </p:sp>
      <p:pic>
        <p:nvPicPr>
          <p:cNvPr id="112" name="Picture 2" descr=""/>
          <p:cNvPicPr/>
          <p:nvPr/>
        </p:nvPicPr>
        <p:blipFill>
          <a:blip r:embed="rId1"/>
          <a:stretch/>
        </p:blipFill>
        <p:spPr>
          <a:xfrm>
            <a:off x="457200" y="2490840"/>
            <a:ext cx="8229600" cy="2744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raft Capital Structure after Transaction</a:t>
            </a:r>
            <a:endParaRPr b="0" lang="en-US" sz="4400" spc="-1" strike="noStrike">
              <a:solidFill>
                <a:srgbClr val="000000"/>
              </a:solidFill>
              <a:latin typeface="Calibri"/>
            </a:endParaRPr>
          </a:p>
        </p:txBody>
      </p:sp>
      <p:pic>
        <p:nvPicPr>
          <p:cNvPr id="114" name="Picture 2" descr=""/>
          <p:cNvPicPr/>
          <p:nvPr/>
        </p:nvPicPr>
        <p:blipFill>
          <a:blip r:embed="rId1"/>
          <a:stretch/>
        </p:blipFill>
        <p:spPr>
          <a:xfrm>
            <a:off x="785880" y="1600200"/>
            <a:ext cx="7572240" cy="4525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Opinion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rry Bivens and Jason English of JPMorgan estimate the deal will dilute earnings for the first two years. “Our previous estimate of $2.20 for this year will go to $2.04,” they stated in a report. Financing the merger is part of the drag. JP Morgan analysts estimate that the incremental annual interest expense for the combined companies is $533 million, based on the $9.5 billion Kraft raised through an offering of 6 percent bonds.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sts' consensus earnings estimate for 2010, according to Zacks Investment Research Group, is $2.16 per diluted share, which is 16 cents higher than the estimate for 2009.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2008 Kraft earned $2.7 billion or $1.77 per diluted share on sales of $31.2 billion. Cadbury posted 2008 earnings of 388 million pounds ($606 millon) at today's exchange rate) on revenues of 5.4 billion pounds ($8.4 billion).</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vens and English are skeptical about Kraft's prediction that the acquisition will increase its long term organic growth to 5 percent from 4 percent. “History would suggest that the addition of Cadbury alone will not add 100 basis points to Kraft’s organic sales growth rate,” they wrote.</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also note that Kraft is taking over a huge British company that specializes in confectionery, an industry in which Kraft is not expert. “Integration risks pose the greatest threat to success,” Bivens and English stated. They see the process as "a bumpy, but upward, road."</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ter the merger agreement was announced Moody’s Investor Service, Fitch Ratings and Standard &amp; Poor’s marked down Kraft debt to the lowest investment grade.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ren Buffet Comment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 feel poorer…in the last two weeks there’s been two things that caused me to feel poorer. They sold a very fine pizza business and they said that they got 3.7 billion for it. But because it had practically no tax basis they really got about 2.5 billion. So they sold a business for 2.5 billion that Nestle (NSRGY) is willing to pay 3.7 billion for. Now can Nestle run it that much better than Kraft? I doubt it. But that business was sold for 2.5 billion (and) earned 280 million pre-tax last year. So they sold that…right around 9 times pre-tax earning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w they mention paying 13 times EBITDA (Earnings Before Interest Taxes Depreciation and Amortization) for Cadbury but they’re paying more than that. For one ting EBITDA is not the same as earnings. Depreciation is a very real expense. But on top of that they’ve got 1.3 billion they’re going to spend in terms of rearrangements of Cadbury. They’ve got 390 million of deal expenses. They are using their own stock - 260 million shares or something like that - (which) their own directors say is significantly undervalued. When they calculate that 13 (times EBITDA) they’re calculating Kraft at market price not at what their own directors think the stock is worth. So: the actual multiple if you look at the value of Kraft stock is more like 16 or 17 and they sold earnings at 9 times. It’s hard to get rich doing th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er and Consideration</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offer is a single offer for all of the issued and outstanding Cadbury ordinary shar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der the basic terms of the offer, Cadbury security holders who accept the offer will be entitled to receive: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   </a:t>
            </a:r>
            <a:r>
              <a:rPr b="0" lang="en-US" sz="2200" spc="-1" strike="noStrike">
                <a:solidFill>
                  <a:srgbClr val="000000"/>
                </a:solidFill>
                <a:latin typeface="Calibri"/>
              </a:rPr>
              <a:t>500 pence in cash and 0.1874 shares of Kraft Foods common stock for each outstanding Cadbury ordinary share validly tendered and not withdrawn; and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   </a:t>
            </a:r>
            <a:r>
              <a:rPr b="0" lang="en-US" sz="2200" spc="-1" strike="noStrike">
                <a:solidFill>
                  <a:srgbClr val="000000"/>
                </a:solidFill>
                <a:latin typeface="Calibri"/>
              </a:rPr>
              <a:t>2,000 pence in cash and 0.7496 shares of Kraft Foods common stock for each outstanding Cadbury ADS validly tendered and not withdraw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raft Results</a:t>
            </a:r>
            <a:endParaRPr b="0" lang="en-US" sz="4400" spc="-1" strike="noStrike">
              <a:solidFill>
                <a:srgbClr val="000000"/>
              </a:solidFill>
              <a:latin typeface="Calibri"/>
            </a:endParaRPr>
          </a:p>
        </p:txBody>
      </p:sp>
      <p:pic>
        <p:nvPicPr>
          <p:cNvPr id="120" name="Picture 2" descr=""/>
          <p:cNvPicPr/>
          <p:nvPr/>
        </p:nvPicPr>
        <p:blipFill>
          <a:blip r:embed="rId1"/>
          <a:stretch/>
        </p:blipFill>
        <p:spPr>
          <a:xfrm>
            <a:off x="615960" y="1523880"/>
            <a:ext cx="8118360" cy="4800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gin Realised</a:t>
            </a:r>
            <a:endParaRPr b="0" lang="en-US" sz="4400" spc="-1" strike="noStrike">
              <a:solidFill>
                <a:srgbClr val="000000"/>
              </a:solidFill>
              <a:latin typeface="Calibri"/>
            </a:endParaRPr>
          </a:p>
        </p:txBody>
      </p:sp>
      <p:pic>
        <p:nvPicPr>
          <p:cNvPr id="122" name="Picture 2" descr=""/>
          <p:cNvPicPr/>
          <p:nvPr/>
        </p:nvPicPr>
        <p:blipFill>
          <a:blip r:embed="rId1"/>
          <a:stretch/>
        </p:blipFill>
        <p:spPr>
          <a:xfrm>
            <a:off x="1338120" y="1600200"/>
            <a:ext cx="6467760" cy="4525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raft Standalone Model</a:t>
            </a:r>
            <a:endParaRPr b="0" lang="en-US" sz="4400" spc="-1" strike="noStrike">
              <a:solidFill>
                <a:srgbClr val="000000"/>
              </a:solidFill>
              <a:latin typeface="Calibri"/>
            </a:endParaRPr>
          </a:p>
        </p:txBody>
      </p:sp>
      <p:pic>
        <p:nvPicPr>
          <p:cNvPr id="124" name="Picture 3" descr=""/>
          <p:cNvPicPr/>
          <p:nvPr/>
        </p:nvPicPr>
        <p:blipFill>
          <a:blip r:embed="rId1"/>
          <a:stretch/>
        </p:blipFill>
        <p:spPr>
          <a:xfrm>
            <a:off x="838080" y="1676520"/>
            <a:ext cx="6962760" cy="4794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gin Assumptions</a:t>
            </a:r>
            <a:endParaRPr b="0" lang="en-US" sz="4400" spc="-1" strike="noStrike">
              <a:solidFill>
                <a:srgbClr val="000000"/>
              </a:solidFill>
              <a:latin typeface="Calibri"/>
            </a:endParaRPr>
          </a:p>
        </p:txBody>
      </p:sp>
      <p:pic>
        <p:nvPicPr>
          <p:cNvPr id="126" name="Picture 2" descr=""/>
          <p:cNvPicPr/>
          <p:nvPr/>
        </p:nvPicPr>
        <p:blipFill>
          <a:blip r:embed="rId1"/>
          <a:stretch/>
        </p:blipFill>
        <p:spPr>
          <a:xfrm>
            <a:off x="1289160" y="1600200"/>
            <a:ext cx="6565680" cy="4525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dbury Divestiture</a:t>
            </a:r>
            <a:endParaRPr b="0" lang="en-US" sz="4400" spc="-1" strike="noStrike">
              <a:solidFill>
                <a:srgbClr val="000000"/>
              </a:solidFill>
              <a:latin typeface="Calibri"/>
            </a:endParaRPr>
          </a:p>
        </p:txBody>
      </p:sp>
      <p:pic>
        <p:nvPicPr>
          <p:cNvPr id="128" name="Picture 4" descr=""/>
          <p:cNvPicPr/>
          <p:nvPr/>
        </p:nvPicPr>
        <p:blipFill>
          <a:blip r:embed="rId1"/>
          <a:stretch/>
        </p:blipFill>
        <p:spPr>
          <a:xfrm>
            <a:off x="950760" y="1569960"/>
            <a:ext cx="72424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iginal Offer</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 August 28, 2009, Ms. Rosenfeld met with Mr. Roger Carr, the Chairman of Cadbury, in London to express our interest in pursuing a business combination with Cadbury. Ms. Rosenfeld informed Mr. Carr that our board of directors had authorized her to make a proposal to acquire all of the outstanding Cadbury ordinary shares for 300 pence in cash and 0.2589 new shares of Kraft Foods common stock per Cadbury ordinary share.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represented a 43% Premiu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raft Cost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Kraft Investors Are Giving up to Get Cadbur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07 billion in cash.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35 billion worth of Kraft stock.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tal Consideration $19.42 Billion</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billion to restructure Cadbur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billion in taxes to sell the pizza busines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22 million to get the deal don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than 2% of Consider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ren Buffet Comment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r Buffett said Kraft had made a mistake pursuing UK chocolate producer Cadbury - famous for its flakes (and its flake ad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rren Buffett said he "has a lot of doubts" about the takeover. Kraft will be paying 500 pence in cash plus 0.1874 of new Kraft shares for a Cadbury shar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r Buffett also thinks Kraft's decision to sell its pizza business to Nestle in order to raise cash for the Cadbury bid, was a mistake. He said it was "enormously tax-inefficient" and cut the actual value of the deal from $US3.7 billion ($4 billion) to $US2.5 billion. The impression he gave was that he was not too impressed with the intelligence or business sense of the Kraft boar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ation</a:t>
            </a:r>
            <a:endParaRPr b="0" lang="en-US" sz="4400" spc="-1" strike="noStrike">
              <a:solidFill>
                <a:srgbClr val="000000"/>
              </a:solidFill>
              <a:latin typeface="Calibri"/>
            </a:endParaRPr>
          </a:p>
        </p:txBody>
      </p:sp>
      <p:pic>
        <p:nvPicPr>
          <p:cNvPr id="56" name="Picture 2" descr=""/>
          <p:cNvPicPr/>
          <p:nvPr/>
        </p:nvPicPr>
        <p:blipFill>
          <a:blip r:embed="rId1"/>
          <a:stretch/>
        </p:blipFill>
        <p:spPr>
          <a:xfrm>
            <a:off x="762120" y="2133720"/>
            <a:ext cx="7627680" cy="278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dbury DCF Valuation</a:t>
            </a:r>
            <a:endParaRPr b="0" lang="en-US" sz="4400" spc="-1" strike="noStrike">
              <a:solidFill>
                <a:srgbClr val="000000"/>
              </a:solidFill>
              <a:latin typeface="Calibri"/>
            </a:endParaRPr>
          </a:p>
        </p:txBody>
      </p:sp>
      <p:sp>
        <p:nvSpPr>
          <p:cNvPr id="58" name=""/>
          <p:cNvSpPr txBox="1"/>
          <p:nvPr/>
        </p:nvSpPr>
        <p:spPr>
          <a:xfrm>
            <a:off x="457200" y="15699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ute the Value of Cadbury using Cadbury Presen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aluate the Position of Existing Shareholders in Relation to the Offer Pr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ute the Value Using Different Growth Rate, Margin and Discount Rate Assump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4T17:07:14Z</dcterms:created>
  <dc:creator>Elvis Presley</dc:creator>
  <dc:description/>
  <dc:language>en-US</dc:language>
  <cp:lastModifiedBy>Nelson Mandela</cp:lastModifiedBy>
  <dcterms:modified xsi:type="dcterms:W3CDTF">2011-04-05T08:04:47Z</dcterms:modified>
  <cp:revision>267</cp:revision>
  <dc:subject/>
  <dc:title>Slide 1</dc:title>
</cp:coreProperties>
</file>